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49F-F349-478A-95B3-D314C214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473-4B67-4E03-BE85-301BBD9B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73C-94E8-4782-AC15-4D8718DA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82B-5CE0-4074-A47E-D6E23A96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79F1-E18B-4EAD-8640-0DC2ACC4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90B6-82ED-44D0-B2D2-612940EB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6079-EEF8-4C60-A763-25FDCC0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90E7-E4BB-467B-9217-AACD45AE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7C0-ADBF-411E-9A73-DE6F6B91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511A-AEF6-403C-A0CD-E1D8E881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B6A8-D8BE-4AF6-8255-5770758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A59-7783-4C16-9A46-6A960083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CD82-080F-4B44-876E-8AA5D35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D73F-293D-403F-AC1C-F747B95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0787-127B-4551-B158-ECD10738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11E4-31CE-400D-97AD-A79F7CC8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C3EC-5F09-4B28-ACD6-6E353B99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AF2C-5973-4E5E-B27F-C767C8D8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C218-7A0B-423E-ABD6-1490C755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359B-AD83-4360-8D27-87FFE7B6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4C2D-C6E5-4675-B546-E91EC9BB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7470-D97D-45AF-A588-0C55EDF6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920-1699-4B19-B086-6824DE5C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2F86-FE76-42F6-9E1A-44A519B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1060-AE60-4777-B836-DE5513B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F61A-F97C-44CA-82BA-552EEB4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D0D3-1B5E-4F47-A419-538A18C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74B3-898F-4878-BE9F-44F7B5AF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53980-91E8-4F1B-B7E4-0D42D4DB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6D22-FAC8-412B-8A57-71FD44D0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AFA1-50C3-4D30-8507-8B22B138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B365-2DD6-473B-BA6D-DF2EEC7D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E57A-074D-475A-A964-DA0C0C0B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FD4-DEDE-4B92-A9B0-197C1CE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4F06-5C00-4121-84F4-80F3C30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8E81-49D1-4466-9E35-A85B5BBC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C587-4EBA-441A-8DCB-35C8100D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EE0E-E211-49D7-B52C-DFC563D9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5866-984A-4945-BD2A-D98383EF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B599-72E4-4BF3-9CB3-A8B8FC89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BEC3-931A-436F-A779-0791CAC8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9762-BFFE-4850-B4DC-3606C87D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0A21-1AE6-45E5-92C1-548F4D19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C97-E78B-4839-B0A4-AEAB52CF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F6E-5F6B-4075-A797-62643EF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338-1B5B-44C1-BDFD-FB555A5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0BC-7298-45C0-A44E-F8E8AC3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2BA-B099-4955-9FAD-09CE5DC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C2CD-B9C2-4623-B843-25CE7A3C84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FA3-E1EC-4860-BA6E-A20E0148A7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BA7E-E84D-4424-BCD4-BE2F553441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9247-915A-416D-9C5D-6CDC05277A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Ken Na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Ol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12193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enge is Cru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short story, Cask of Amontillado,  Montressor kills Fortunato to get reve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tressor made the payback much worse than the original d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ves that revenge is cruel and can sometimes go extremely           overbo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1793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lden Ru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tunato was cruel to Montressor and Montressor was cruel in retu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tunato should have expected Montressor to get e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unto others as you want to be tre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2116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ymb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l in the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s are hints of what’s going to be or what’s going to happen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5:44:49Z</dcterms:created>
  <dc:creator>Milford Public Schools</dc:creator>
  <dc:description/>
  <dc:language>en-US</dc:language>
  <cp:lastModifiedBy>Milford Public Schools</cp:lastModifiedBy>
  <dcterms:modified xsi:type="dcterms:W3CDTF">2007-10-17T15:21:49Z</dcterms:modified>
  <cp:revision>4</cp:revision>
  <dc:subject/>
  <dc:title>Symbol</dc:title>
</cp:coreProperties>
</file>